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7DCF-BF49-4F2A-AA4C-3DE8A16DAF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FD1-2393-4885-B12C-D29FE4F2C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9086-223C-4E4E-898D-6DAD562F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D7C-52C7-4E24-A821-69A8374F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4C9-7F9C-4904-92FD-F8D1FD04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29E-94FF-490A-B844-6F55C542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63D-3CDE-4514-8259-B663169F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7B5-5D6F-4DD4-B363-92D6CEAD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D35-AC4B-4476-BC92-70814314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F11-9602-4A47-8CBC-44086DAD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346-0AC0-4F63-B6B0-477C23F1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0A6-8C74-4604-8B75-74657182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23E-CACC-46C3-A8C9-8B15A063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258C-B447-42CF-BCAC-E279F10878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889760" cy="32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57480"/>
            <a:ext cx="6200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067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е результаты О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85520"/>
            <a:ext cx="817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клады о состоянии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ий менеджмент на предприятиях , «Вода и безопас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692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8556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7120" y="1285920"/>
            <a:ext cx="83296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456840"/>
            <a:ext cx="811512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6760" y="1143000"/>
            <a:ext cx="8286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1928520"/>
            <a:ext cx="8186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8115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5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2968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жиш, Чехословак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церн, Швейц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фия, Болг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хус, 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в, Укра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град, Сер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9:44:54Z</dcterms:created>
  <dc:creator>none</dc:creator>
  <dc:description/>
  <dc:language>en-US</dc:language>
  <cp:lastModifiedBy>LEGION</cp:lastModifiedBy>
  <dcterms:modified xsi:type="dcterms:W3CDTF">2016-01-05T11:06:06Z</dcterms:modified>
  <cp:revision>9</cp:revision>
  <dc:subject/>
  <dc:title>Возможности гражданского общества для укрепления сотрудничества в сфере содействия международному развитию</dc:title>
</cp:coreProperties>
</file>